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F5112-B896-4053-A661-6F5F0E477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15501-A087-4A82-98DF-69178054B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F3647-C12B-4E94-A722-B77E613E3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DA96C-857F-4948-B06D-67AB952CD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35F8B-A607-459C-BDC6-BA815A6F1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9F99E-60C7-4275-8D88-CE6DB9125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53CC6-4E3C-4F02-A544-319A5D557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A02B7-B6D3-4391-BDE2-984AE13D5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5C090-4265-447E-BF9B-5CCD56422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C89F7-55DD-4518-849F-79656100B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56FED-7875-4CB5-B457-CF895C3D2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19B57-1821-40DC-98FD-CA0272344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7FDF8-49DD-4E0F-A089-A5A00450D3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D:\Background Images\bb0184.jpg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36560" y="1460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The Benefits of Automated Boiler Blowdow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56868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resented by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Picture 11" descr="Untitled.pdf"/>
          <p:cNvPicPr/>
          <p:nvPr/>
        </p:nvPicPr>
        <p:blipFill>
          <a:blip r:embed="rId2"/>
          <a:stretch/>
        </p:blipFill>
        <p:spPr>
          <a:xfrm>
            <a:off x="3048120" y="4343400"/>
            <a:ext cx="317016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D:\Background Images\bb0184.jpg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6"/>
          <p:cNvSpPr/>
          <p:nvPr/>
        </p:nvSpPr>
        <p:spPr>
          <a:xfrm>
            <a:off x="685800" y="9144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Types of Boiler Controllers: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Timed Sampl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ectangle 7"/>
          <p:cNvSpPr/>
          <p:nvPr/>
        </p:nvSpPr>
        <p:spPr>
          <a:xfrm>
            <a:off x="533520" y="2286000"/>
            <a:ext cx="7772400" cy="344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Used when steam blowdown is less than 5000 pounds per hou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ontroller intermittently takes a sample of boiler water and blows down until conductivity falls to desired lev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ost commercial and light industrial applications use timed samp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0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D:\Background Images\bb0184.jpg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5"/>
          <p:cNvSpPr/>
          <p:nvPr/>
        </p:nvSpPr>
        <p:spPr>
          <a:xfrm>
            <a:off x="685800" y="9144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Typical Timed-Sampling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Blowdown Instal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7" descr=""/>
          <p:cNvPicPr/>
          <p:nvPr/>
        </p:nvPicPr>
        <p:blipFill>
          <a:blip r:embed="rId2"/>
          <a:stretch/>
        </p:blipFill>
        <p:spPr>
          <a:xfrm>
            <a:off x="1117440" y="2004840"/>
            <a:ext cx="6896160" cy="406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0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D:\Background Images\bb0184.jpg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427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Any Question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9" descr="\\Megan\MYDOCUMENTS\Advantage Controls\graphics\all for Jeff\group.tif"/>
          <p:cNvPicPr/>
          <p:nvPr/>
        </p:nvPicPr>
        <p:blipFill>
          <a:blip r:embed="rId2"/>
          <a:stretch/>
        </p:blipFill>
        <p:spPr>
          <a:xfrm>
            <a:off x="1676520" y="1523880"/>
            <a:ext cx="54878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026" descr="D:\Background Images\bb0184.jpg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32"/>
          <p:cNvSpPr/>
          <p:nvPr/>
        </p:nvSpPr>
        <p:spPr>
          <a:xfrm>
            <a:off x="457200" y="22352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hemical treatment programs that are no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ccompanied by effective blowdow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onitoring are one of the leading causes of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xcessive boiler operating efficienci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nd/or failure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-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Kewanee Boiler Compa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Source: www.kewaneeboiler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33"/>
          <p:cNvSpPr/>
          <p:nvPr/>
        </p:nvSpPr>
        <p:spPr>
          <a:xfrm>
            <a:off x="914400" y="914400"/>
            <a:ext cx="7238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How Important is Routine Surface Blowdow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D:\Background Images\bb0184.jpg"/>
          <p:cNvPicPr/>
          <p:nvPr/>
        </p:nvPicPr>
        <p:blipFill>
          <a:blip r:embed="rId1"/>
          <a:stretch/>
        </p:blipFill>
        <p:spPr>
          <a:xfrm>
            <a:off x="-228600" y="0"/>
            <a:ext cx="9753480" cy="7315200"/>
          </a:xfrm>
          <a:prstGeom prst="rect">
            <a:avLst/>
          </a:prstGeom>
          <a:ln w="0">
            <a:noFill/>
          </a:ln>
        </p:spPr>
      </p:pic>
      <p:pic>
        <p:nvPicPr>
          <p:cNvPr id="49" name="Object 5" descr=""/>
          <p:cNvPicPr/>
          <p:nvPr/>
        </p:nvPicPr>
        <p:blipFill>
          <a:blip r:embed="rId2"/>
          <a:stretch/>
        </p:blipFill>
        <p:spPr>
          <a:xfrm>
            <a:off x="4602240" y="1752480"/>
            <a:ext cx="4160880" cy="449604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6"/>
          <p:cNvSpPr/>
          <p:nvPr/>
        </p:nvSpPr>
        <p:spPr>
          <a:xfrm>
            <a:off x="457200" y="2044800"/>
            <a:ext cx="4572000" cy="45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Under the worst cases, manual blowdown leads to high and low conductivity spik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Above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the target maximum forms sca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Below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the target maximum wastes wa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7"/>
          <p:cNvSpPr/>
          <p:nvPr/>
        </p:nvSpPr>
        <p:spPr>
          <a:xfrm>
            <a:off x="666720" y="9907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Inadequacies of Manual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Boiler Blowdow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D:\Background Images\bb0184.jpg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6"/>
          <p:cNvSpPr/>
          <p:nvPr/>
        </p:nvSpPr>
        <p:spPr>
          <a:xfrm>
            <a:off x="685800" y="9144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Manual Blowdown Could Lead to Excess Water Us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7"/>
          <p:cNvSpPr/>
          <p:nvPr/>
        </p:nvSpPr>
        <p:spPr>
          <a:xfrm>
            <a:off x="457200" y="2044800"/>
            <a:ext cx="4343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t best, manual blowdown results in far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lower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than ideal conductivity lev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his results in excess water us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Object 8" descr=""/>
          <p:cNvPicPr/>
          <p:nvPr/>
        </p:nvPicPr>
        <p:blipFill>
          <a:blip r:embed="rId2"/>
          <a:stretch/>
        </p:blipFill>
        <p:spPr>
          <a:xfrm>
            <a:off x="4343400" y="1981080"/>
            <a:ext cx="38084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D:\Background Images\bb0184.jpg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6"/>
          <p:cNvSpPr/>
          <p:nvPr/>
        </p:nvSpPr>
        <p:spPr>
          <a:xfrm>
            <a:off x="1257480" y="990720"/>
            <a:ext cx="654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Excessive Blowdown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Has Many Cos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7"/>
          <p:cNvSpPr/>
          <p:nvPr/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22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ater costs -- Excessive blowdown means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ore makeup and higher sewage bil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22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nergy costs --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Heated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water is sent down the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drain during blowdow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22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hemical costs -- Chemical usage is, in most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ases, directly tied water us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D:\Background Images\bb0184.jpg"/>
          <p:cNvPicPr/>
          <p:nvPr/>
        </p:nvPicPr>
        <p:blipFill>
          <a:blip r:embed="rId1"/>
          <a:stretch/>
        </p:blipFill>
        <p:spPr>
          <a:xfrm>
            <a:off x="-228600" y="-22860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6"/>
          <p:cNvSpPr/>
          <p:nvPr/>
        </p:nvSpPr>
        <p:spPr>
          <a:xfrm>
            <a:off x="698400" y="9144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Scale Formation Leads to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Energy Inefficienc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7"/>
          <p:cNvSpPr/>
          <p:nvPr/>
        </p:nvSpPr>
        <p:spPr>
          <a:xfrm>
            <a:off x="228600" y="1981080"/>
            <a:ext cx="4800600" cy="44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nfrequent blowdown  leads to scale forming conductivity lev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/1000” layer of scale reduces heat transfer efficiency by up to 10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xtreme scale build-up leads to costly repairs/replac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Object 8" descr=""/>
          <p:cNvPicPr/>
          <p:nvPr/>
        </p:nvPicPr>
        <p:blipFill>
          <a:blip r:embed="rId2"/>
          <a:stretch/>
        </p:blipFill>
        <p:spPr>
          <a:xfrm>
            <a:off x="5105520" y="2057400"/>
            <a:ext cx="37335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D:\Background Images\bb0184.jpg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6"/>
          <p:cNvSpPr/>
          <p:nvPr/>
        </p:nvSpPr>
        <p:spPr>
          <a:xfrm>
            <a:off x="711360" y="9144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Benefits of Automatic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Boiler Blowdow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7"/>
          <p:cNvSpPr/>
          <p:nvPr/>
        </p:nvSpPr>
        <p:spPr>
          <a:xfrm>
            <a:off x="457200" y="1828800"/>
            <a:ext cx="380988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onductivity levels are monitored continuous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onductivity is kept near the target maximum at all ti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Object 8" descr=""/>
          <p:cNvPicPr/>
          <p:nvPr/>
        </p:nvPicPr>
        <p:blipFill>
          <a:blip r:embed="rId2"/>
          <a:stretch/>
        </p:blipFill>
        <p:spPr>
          <a:xfrm>
            <a:off x="4495680" y="1828800"/>
            <a:ext cx="38084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D:\Background Images\bb0184.jpg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6"/>
          <p:cNvSpPr/>
          <p:nvPr/>
        </p:nvSpPr>
        <p:spPr>
          <a:xfrm>
            <a:off x="673200" y="9144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Automated Boiler Blowdown Saves Mone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38088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inimum of 20% increase in conductivity levels versus manual control.  This would result in a 20% direct savings in fue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Less blowdown and makeup requi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Less makeup means less chemical us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Less testing and manual care requi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revents costly scale formation -- big  savings !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verage payback time of less than one ye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0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D:\Background Images\bb0184.jpg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6"/>
          <p:cNvSpPr/>
          <p:nvPr/>
        </p:nvSpPr>
        <p:spPr>
          <a:xfrm>
            <a:off x="698400" y="9144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Types of Boiler Controllers: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Continuous Sampl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Rectangle 7"/>
          <p:cNvSpPr/>
          <p:nvPr/>
        </p:nvSpPr>
        <p:spPr>
          <a:xfrm>
            <a:off x="533520" y="2286000"/>
            <a:ext cx="7772400" cy="344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Used only when steam blowdown requirements exceed 5000 pounds per hou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llows a continuous sample of water to flow across the probe (to drain) and continuously monitors and adjusts the conductivity lev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Only used on the largest of boilers due to the continual flow of sample water to dr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4T16:04:25Z</dcterms:created>
  <dc:creator>Jeff O'Neal</dc:creator>
  <dc:description/>
  <dc:language>en-US</dc:language>
  <cp:lastModifiedBy>AJ Nor</cp:lastModifiedBy>
  <dcterms:modified xsi:type="dcterms:W3CDTF">2010-10-04T16:22:03Z</dcterms:modified>
  <cp:revision>7</cp:revision>
  <dc:subject/>
  <dc:title>The Benefits of Automated Boiler Blowdown</dc:title>
</cp:coreProperties>
</file>