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1.png" ContentType="image/png"/>
  <Override PartName="/ppt/media/image10.jpeg" ContentType="image/jpeg"/>
  <Override PartName="/ppt/media/image5.png" ContentType="image/png"/>
  <Override PartName="/ppt/media/image12.png" ContentType="image/png"/>
  <Override PartName="/ppt/media/image19.png" ContentType="image/png"/>
  <Override PartName="/ppt/media/image18.png" ContentType="image/png"/>
  <Override PartName="/ppt/media/image15.jpeg" ContentType="image/jpeg"/>
  <Override PartName="/ppt/media/image16.png" ContentType="image/png"/>
  <Override PartName="/ppt/media/image9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jpeg" ContentType="image/jpeg"/>
  <Override PartName="/ppt/media/image14.jpeg" ContentType="image/jpeg"/>
  <Override PartName="/ppt/media/image8.png" ContentType="image/png"/>
  <Override PartName="/ppt/media/image7.png" ContentType="image/png"/>
  <Override PartName="/ppt/media/image1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06D44-3A82-43B7-AA5F-DAD0CAC89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F1759-670D-4B9A-8165-FD11EC65E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6940B-30FB-4011-988C-BF670834A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144A6-1FCE-4563-8E85-8EE7F8859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07D08-CDDD-4E46-8C1E-F53F20EDC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8B145-0759-4F9F-863A-5AE7AFA4F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FC591-4145-4E23-8E5B-8083CB521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D7956-C584-494E-8B52-BA8418842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EC0E2-F559-4101-B812-56A69CC90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1F42C-627F-48CB-B14E-195113A61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DCB3C-6BDF-4195-BD7E-DEF373F1C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F3D3C-77E6-4F79-84D5-BB51D9F4A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B5C28-B0D1-4E83-B98D-851AC4665D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D:\Background Images\bb0184.jpg"/>
          <p:cNvPicPr/>
          <p:nvPr/>
        </p:nvPicPr>
        <p:blipFill>
          <a:blip r:embed="rId1"/>
          <a:stretch/>
        </p:blipFill>
        <p:spPr>
          <a:xfrm>
            <a:off x="-304920" y="-4572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84280" y="1294920"/>
            <a:ext cx="7950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reventative Maintenance</a:t>
            </a:r>
            <a:br>
              <a:rPr sz="4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For Water Treatment Syste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resented by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Picture 5" descr="Untitled.pdf"/>
          <p:cNvPicPr/>
          <p:nvPr/>
        </p:nvPicPr>
        <p:blipFill>
          <a:blip r:embed="rId2"/>
          <a:stretch/>
        </p:blipFill>
        <p:spPr>
          <a:xfrm>
            <a:off x="2971800" y="4191120"/>
            <a:ext cx="3200400" cy="13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D:\Background Images\bb0184.jpg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240" y="6091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pH/ORP Probe Maintena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09680" y="1739880"/>
            <a:ext cx="8277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eference junction should be whi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oft coatings - vigorous stirring in water, squirt bottle, or gentle soft clo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Hard coatings - mild acid (5% HC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Oils - Spray detergent (409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8" descr="C:\Documents and Settings\Newt\Desktop\FlatSurfaceBottomView.jpg"/>
          <p:cNvPicPr/>
          <p:nvPr/>
        </p:nvPicPr>
        <p:blipFill>
          <a:blip r:embed="rId2"/>
          <a:stretch/>
        </p:blipFill>
        <p:spPr>
          <a:xfrm>
            <a:off x="6400800" y="3124080"/>
            <a:ext cx="2743200" cy="22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D:\Background Images\bb0184.jpg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240" y="6091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pH/ORP Probe Maintena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09680" y="1739880"/>
            <a:ext cx="8277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H probes should be cleaned &amp; calibrated as needed (compare accuracy against a hand tester or standard solutions); weekly is a good starting poi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Use periodic 2-point pH calibrations (low and high buffer solutions) to ensure accurate span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ORP is normally not calibrated (reads in a range, not a single point); clean probe if ORP doesn’t maintain the target Cl- or Br- residu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D:\Background Images\bb0184.jpg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240" y="6091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pH/ORP Probe Maintena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09320" y="1739880"/>
            <a:ext cx="4848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Flat surface probes are self-cleaning to some degree   (no dead spot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Flat surface probes resist breakage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(no protruding bulb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7" descr=""/>
          <p:cNvPicPr/>
          <p:nvPr/>
        </p:nvPicPr>
        <p:blipFill>
          <a:blip r:embed="rId2"/>
          <a:stretch/>
        </p:blipFill>
        <p:spPr>
          <a:xfrm>
            <a:off x="5410080" y="1841400"/>
            <a:ext cx="2695680" cy="12668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8" descr=""/>
          <p:cNvPicPr/>
          <p:nvPr/>
        </p:nvPicPr>
        <p:blipFill>
          <a:blip r:embed="rId3"/>
          <a:stretch/>
        </p:blipFill>
        <p:spPr>
          <a:xfrm>
            <a:off x="5410080" y="3695760"/>
            <a:ext cx="2695680" cy="17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D:\Background Images\bb0184.jpg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240" y="6091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pH/ORP Probe Maintena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09680" y="1739880"/>
            <a:ext cx="8277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H/ORP probes last 6-24 months depending on quality of water; replace annually (or every other year at the longes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New ORP probes take several hours to initialize and then respond within minu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New pH probes are ready out of the box and respond in a matter of seco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eaction time and span accuracy decrease with age/fou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D:\Background Images\bb0184.jpg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240" y="6091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pH/ORP Probe Maintena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09680" y="1739880"/>
            <a:ext cx="8277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Disconnect pH/ORP probes when the controller is unpowered (they are a type of battery that will drai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H/ORP probes cannot be stored d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4.0 buffer for pH probes (never DI wat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ap water for ORP 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eviving a dried probe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may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be possible by soaking the probe in its storage solution for 8+ hours (save the shipping cap/bottle for storag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D:\Background Images\bb0184.jpg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409680" y="1739880"/>
            <a:ext cx="8277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Picture 7" descr="C:\Documents and Settings\Newt\Desktop\example dirty,clean flow.jpg"/>
          <p:cNvPicPr/>
          <p:nvPr/>
        </p:nvPicPr>
        <p:blipFill>
          <a:blip r:embed="rId2"/>
          <a:stretch/>
        </p:blipFill>
        <p:spPr>
          <a:xfrm>
            <a:off x="6324480" y="1828800"/>
            <a:ext cx="2716200" cy="358128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8"/>
          <p:cNvSpPr/>
          <p:nvPr/>
        </p:nvSpPr>
        <p:spPr>
          <a:xfrm>
            <a:off x="561960" y="1892160"/>
            <a:ext cx="56865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Flow switches prevent relay activation when the recirc pumps are of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Fouled flow switches lead to improper relay activ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Flow Switch Maintena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D:\Background Images\bb0184.jpg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09680" y="1739880"/>
            <a:ext cx="8277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7"/>
          <p:cNvSpPr/>
          <p:nvPr/>
        </p:nvSpPr>
        <p:spPr>
          <a:xfrm>
            <a:off x="561960" y="1892160"/>
            <a:ext cx="56865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hermal flow switches with no moving parts minimize debris hang-u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till susceptible to scaling o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8" descr="C:\Documents and Settings\Newt\Desktop\TFS-C with  FS-T.jpg"/>
          <p:cNvPicPr/>
          <p:nvPr/>
        </p:nvPicPr>
        <p:blipFill>
          <a:blip r:embed="rId2"/>
          <a:stretch/>
        </p:blipFill>
        <p:spPr>
          <a:xfrm>
            <a:off x="6705720" y="1905120"/>
            <a:ext cx="1879560" cy="350496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Flow Switch Maintena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D:\Background Images\bb0184.jpg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240" y="7617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Metering Pump Maintena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09320" y="1739880"/>
            <a:ext cx="5686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ump maintenance is limited primarily to the liquid en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 pump liquid end will last a few years under normal condi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Life span is affected b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hemical compati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Frequency of us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empera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11" descr="C:\My Documents\Advantage Controls\graphics\A Pump 2.tif"/>
          <p:cNvPicPr/>
          <p:nvPr/>
        </p:nvPicPr>
        <p:blipFill>
          <a:blip r:embed="rId2"/>
          <a:srcRect l="6668" t="6668" r="6668" b="6668"/>
          <a:stretch/>
        </p:blipFill>
        <p:spPr>
          <a:xfrm>
            <a:off x="5873760" y="2133720"/>
            <a:ext cx="3117960" cy="311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D:\Background Images\bb0184.jpg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240" y="7617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Metering Pump Maintenanc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09320" y="1739880"/>
            <a:ext cx="5686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 typical pump liquid end consists of over 60 individual components arranged into major sub-assembl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eplacing assemblies vs. component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Less time consu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ore cost effective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267600" y="1752480"/>
          <a:ext cx="2342880" cy="4064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267600" y="1752480"/>
                    <a:ext cx="2342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D:\Background Images\bb0184.jpg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240" y="7617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Metering Pump Maintenanc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09320" y="1739880"/>
            <a:ext cx="5686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Foot valve assemb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Foot valves feature an integral strainer screen and cartridge check valv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lean or replace when pump will not prime or when pump continually loses pri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nstall 1”-2” above bottom of tank to minimize blockag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Picture 8" descr="C:\Documents and Settings\Newt\Desktop\Foot valve.JPG"/>
          <p:cNvPicPr/>
          <p:nvPr/>
        </p:nvPicPr>
        <p:blipFill>
          <a:blip r:embed="rId2"/>
          <a:srcRect l="19287" t="5937" r="14836" b="3958"/>
          <a:stretch/>
        </p:blipFill>
        <p:spPr>
          <a:xfrm>
            <a:off x="6248520" y="2514600"/>
            <a:ext cx="2479680" cy="254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D:\Background Images\bb0184.jpg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240" y="6091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Preventative Maintenanc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09680" y="1739880"/>
            <a:ext cx="8277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M wil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rolong the life of equip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rovide more efficiently operating syst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inimize emergency maintenance cal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ave money in the long r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" descr="D:\Background Images\bb0184.jpg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240" y="7617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Metering Pump Maintenanc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09680" y="1739880"/>
            <a:ext cx="5153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Head assem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nsists of head, suction &amp; discharge valves, priming valve, diaphragm, &amp; scre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lean or replace when pump will not move chemical or when chronic leakage occu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o not use Teflon tape on pump head fitting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ighten fittings only hand-t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Picture 7" descr="C:\Documents and Settings\Newt\Desktop\Head.JPG"/>
          <p:cNvPicPr/>
          <p:nvPr/>
        </p:nvPicPr>
        <p:blipFill>
          <a:blip r:embed="rId2"/>
          <a:srcRect l="20737" t="0" r="6912" b="0"/>
          <a:stretch/>
        </p:blipFill>
        <p:spPr>
          <a:xfrm>
            <a:off x="5562720" y="2362320"/>
            <a:ext cx="301608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D:\Background Images\bb0184.jpg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240" y="7617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Metering Pump Maintenanc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09320" y="1739880"/>
            <a:ext cx="5381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njection valve assemb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njection valves feature a spring-loaded cartridge check valv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lean or replace when chemical won’t pass or when tower water overcomes check valv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nspect nozzle tip for chemical crystallization and blockag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Picture 9" descr="C:\Documents and Settings\Newt\Desktop\Inj valve.JPG"/>
          <p:cNvPicPr/>
          <p:nvPr/>
        </p:nvPicPr>
        <p:blipFill>
          <a:blip r:embed="rId2"/>
          <a:srcRect l="13824" t="6148" r="11520" b="6148"/>
          <a:stretch/>
        </p:blipFill>
        <p:spPr>
          <a:xfrm>
            <a:off x="5943600" y="2362320"/>
            <a:ext cx="2830680" cy="249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D:\Background Images\bb0184.jpg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240" y="7617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Metering Pump Maintenanc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09320" y="1739880"/>
            <a:ext cx="614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General tip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eplace all wear &amp; tear components at the same time (will save on multiple repair attempt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Keep a spare liquid end on hand to prevent unnecessary downtime in chemical treatment progra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nspect tubing annually for cracks and splits.  Replace as need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Picture 7" descr=""/>
          <p:cNvPicPr/>
          <p:nvPr/>
        </p:nvPicPr>
        <p:blipFill>
          <a:blip r:embed="rId2"/>
          <a:srcRect l="12000" t="5000" r="18000" b="5000"/>
          <a:stretch/>
        </p:blipFill>
        <p:spPr>
          <a:xfrm>
            <a:off x="6272280" y="1981080"/>
            <a:ext cx="241452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D:\Background Images\bb0184.jpg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240" y="7617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Bleed Valve Assemblie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09680" y="1739880"/>
            <a:ext cx="8277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Use a strainer with solenoid valves; clean as need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onsider upgrading to a motorized ball valve if plugged valves are a recurring proble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7" descr="C:\Documents and Settings\Newt\My Documents\Advantage Controls\United Labs\SGO-34-A.jpg"/>
          <p:cNvPicPr/>
          <p:nvPr/>
        </p:nvPicPr>
        <p:blipFill>
          <a:blip r:embed="rId2"/>
          <a:stretch/>
        </p:blipFill>
        <p:spPr>
          <a:xfrm>
            <a:off x="762120" y="3809880"/>
            <a:ext cx="4190760" cy="19623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8" descr=""/>
          <p:cNvPicPr/>
          <p:nvPr/>
        </p:nvPicPr>
        <p:blipFill>
          <a:blip r:embed="rId3"/>
          <a:stretch/>
        </p:blipFill>
        <p:spPr>
          <a:xfrm>
            <a:off x="5791320" y="3809880"/>
            <a:ext cx="2209680" cy="19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D:\Background Images\bb0184.jpg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427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Any Question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Picture 9" descr="\\Megan\MYDOCUMENTS\Advantage Controls\graphics\all for Jeff\group.tif"/>
          <p:cNvPicPr/>
          <p:nvPr/>
        </p:nvPicPr>
        <p:blipFill>
          <a:blip r:embed="rId2"/>
          <a:stretch/>
        </p:blipFill>
        <p:spPr>
          <a:xfrm>
            <a:off x="1676520" y="1523880"/>
            <a:ext cx="54878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D:\Background Images\bb0184.jpg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240" y="6091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ater Treatment System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-76320" y="1828440"/>
            <a:ext cx="4848480" cy="184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ater treatment controll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hemical metering pum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Bleed-off valve assembli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4495680" y="2819520"/>
          <a:ext cx="4496040" cy="3009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495680" y="2819520"/>
                    <a:ext cx="4496040" cy="300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050" descr="D:\Background Images\bb0184.jpg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240" y="7617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ater Treatment Controllers</a:t>
            </a:r>
            <a:br>
              <a:rPr sz="44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Probe Maintenance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09680" y="1739880"/>
            <a:ext cx="8277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onductivity Prob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ithout accurately controlling TDS levels, chemical treatment efforts are of little 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naccurate conductivity readings are caused by fouled/failed prob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D:\Background Images\bb0184.jpg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240" y="6091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Conductivity Probe Maintenanc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09320" y="1739880"/>
            <a:ext cx="4771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lean probe vs. fouled pro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ome fouling only appears when the probe is dry..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6" descr="C:\Documents and Settings\Newt\Desktop\probe examples dirty, clean.jpg"/>
          <p:cNvPicPr/>
          <p:nvPr/>
        </p:nvPicPr>
        <p:blipFill>
          <a:blip r:embed="rId2"/>
          <a:stretch/>
        </p:blipFill>
        <p:spPr>
          <a:xfrm>
            <a:off x="5181480" y="2209680"/>
            <a:ext cx="3733920" cy="33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D:\Background Images\bb0184.jpg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240" y="6091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Conductivity Probe Maintena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09680" y="1739880"/>
            <a:ext cx="8277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Loose coatings or oils - soft cloth with deterg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Hard coatings or sca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ild acid (5% HC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ine-grit sandpaper or emery clo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2498760" y="3733920"/>
          <a:ext cx="4162320" cy="1944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498760" y="3733920"/>
                    <a:ext cx="4162320" cy="194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D:\Background Images\bb0184.jpg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240" y="6091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Conductivity Probe Maintena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lways clean probe before calib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&gt; 5-10% error is excess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leaning/calibration frequency depends on water quality (monthly is a good starting poin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ompare controller’s reading to calibrated hand tester (easiest) or check against buffer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D:\Background Images\bb0184.jpg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240" y="6091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Conductivity Probe Maintena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09680" y="1739880"/>
            <a:ext cx="8277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torage - wet or dry (drain sample line in winter to protect plastic piping from bursting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Life span - several years when properly maintain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D:\Background Images\bb0184.jpg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240" y="6091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pH/ORP Probe Maintena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09320" y="1739880"/>
            <a:ext cx="8048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H/ORP Prob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H probes are required for automated acid feed progra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ORP probes are often used for automated oxidizing biocide fe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robe anatomies are similar (reference junction &amp; measurement surfa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8T19:25:54Z</dcterms:created>
  <dc:creator>Jeff O'Neal</dc:creator>
  <dc:description/>
  <dc:language>en-US</dc:language>
  <cp:lastModifiedBy>AJ Nor</cp:lastModifiedBy>
  <dcterms:modified xsi:type="dcterms:W3CDTF">2010-10-04T16:26:36Z</dcterms:modified>
  <cp:revision>38</cp:revision>
  <dc:subject/>
  <dc:title>Fremont Megatron Training</dc:title>
</cp:coreProperties>
</file>