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0AD-758E-4EEB-9E7E-9EF7D9ED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760-DA76-49D4-9CB3-9A0A4A7D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70F-15E5-4138-8191-ED446CB6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26E-6123-4855-BB9E-456B73A9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E13-E2C0-45C4-B372-8B69CDC6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490-720A-4121-BF8A-8DC939A2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735-18BD-4B12-8199-DE563C6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5F4-85D6-45E2-9EDE-857044C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9DA-BD41-49D2-8CCF-F39D2131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094-9FAF-4972-A516-CA29BDA2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4DC-E7C0-47F2-96EF-D8B25B0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C8D-8C47-4074-9131-E6D7743F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D59D-52B8-4169-B1BE-54CEF6DAA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akyfosset.gif"/>
          <p:cNvPicPr/>
          <p:nvPr/>
        </p:nvPicPr>
        <p:blipFill>
          <a:blip r:embed="rId2"/>
          <a:stretch/>
        </p:blipFill>
        <p:spPr>
          <a:xfrm>
            <a:off x="4876920" y="2705040"/>
            <a:ext cx="1190520" cy="1790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07:59Z</dcterms:created>
  <dc:creator>Chris Morris</dc:creator>
  <dc:description/>
  <dc:language>en-US</dc:language>
  <cp:lastModifiedBy>AJ Nor</cp:lastModifiedBy>
  <dcterms:modified xsi:type="dcterms:W3CDTF">2010-10-04T16:02:12Z</dcterms:modified>
  <cp:revision>41</cp:revision>
  <dc:subject/>
  <dc:title> Why Automate?</dc:title>
</cp:coreProperties>
</file>