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91D-CEEE-4AE5-9482-62305CD5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8BD-7F3E-4ECA-901F-2EBF0486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C7B-C9D1-47DB-A8D0-39341F63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FD9-CC17-49CF-B371-C11E1232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8C58-5644-4941-991F-72F9B31C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182-AD9A-43A5-936C-8029389D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D82-E90B-4E1D-BBCC-2DFB397A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D32-06F3-4E50-8FBE-6462C9BA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F356-623B-4F8F-BEB6-F2DDF118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CDE-7BCD-461D-8597-702BD8B7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5FC-BFEB-4C7A-8D5E-CD0137A0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73B-B36D-4972-B5C0-2380AA43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CE83-9AF5-4D2D-8C65-722C758F9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akyfosset.gif"/>
          <p:cNvPicPr/>
          <p:nvPr/>
        </p:nvPicPr>
        <p:blipFill>
          <a:blip r:embed="rId2"/>
          <a:stretch/>
        </p:blipFill>
        <p:spPr>
          <a:xfrm>
            <a:off x="4876920" y="2705040"/>
            <a:ext cx="1190520" cy="179064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2:07:59Z</dcterms:created>
  <dc:creator>Chris Morris</dc:creator>
  <dc:description/>
  <dc:language>en-US</dc:language>
  <cp:lastModifiedBy>AJ Nor</cp:lastModifiedBy>
  <dcterms:modified xsi:type="dcterms:W3CDTF">2010-10-04T16:02:12Z</dcterms:modified>
  <cp:revision>41</cp:revision>
  <dc:subject/>
  <dc:title> Why Automate?</dc:title>
</cp:coreProperties>
</file>