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152-1A34-474C-B76D-72A5A421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F21-7FB3-4409-8281-2E71BE0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4F6-5F7D-49D1-BE38-23E5DD7A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293-2806-472A-9279-1BB3B53F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74A-903F-4974-8AA2-F0616C12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15D-1BAB-48A9-A67C-58E0420C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758-8F81-4AFB-82D1-D61D6B1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760-83B1-4F6A-B82F-6A86B8CE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5C9-B1C1-48F0-854E-1EDCE8B4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5CA-2CC4-487A-9684-2C6B0CB6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685-600D-4304-ADD1-E1DEBEC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B26-048D-463F-BF08-49E33011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91D2-EBCE-44A3-BC3D-EAF771B9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07:59Z</dcterms:created>
  <dc:creator>Chris Morris</dc:creator>
  <dc:description/>
  <dc:language>en-US</dc:language>
  <cp:lastModifiedBy>AJ Nor</cp:lastModifiedBy>
  <dcterms:modified xsi:type="dcterms:W3CDTF">2010-10-04T15:59:54Z</dcterms:modified>
  <cp:revision>31</cp:revision>
  <dc:subject/>
  <dc:title>Why Automate?</dc:title>
</cp:coreProperties>
</file>